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75772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75772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EAD3-2A92-4DC9-8D73-3B05DC6D3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23920" y="692280"/>
            <a:ext cx="4610160" cy="3457440"/>
          </a:xfrm>
          <a:prstGeom prst="rect">
            <a:avLst/>
          </a:prstGeom>
          <a:ln w="0">
            <a:noFill/>
          </a:ln>
        </p:spPr>
      </p:sp>
      <p:sp>
        <p:nvSpPr>
          <p:cNvPr id="184"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ix has been applied it is important to test the entire system.  Testing will obviously make sure that the original problem has been fixed.  Testing should also ensure that the things that worked before still work.  A logical test plan should be developed.  This can easily be done by employing a tree structure that branches out for every condition the process may take.  A series of tests will be necessary to test every branch of the programming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23920" y="692280"/>
            <a:ext cx="4610160" cy="3457440"/>
          </a:xfrm>
          <a:prstGeom prst="rect">
            <a:avLst/>
          </a:prstGeom>
          <a:ln w="0">
            <a:noFill/>
          </a:ln>
        </p:spPr>
      </p:sp>
      <p:sp>
        <p:nvSpPr>
          <p:cNvPr id="186"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a:t>
            </a:r>
            <a:r>
              <a:rPr b="0" lang="en-US" sz="1200" spc="-1" strike="noStrike" baseline="30000">
                <a:solidFill>
                  <a:srgbClr val="000000"/>
                </a:solidFill>
                <a:latin typeface="Arial"/>
              </a:rPr>
              <a:t>nd</a:t>
            </a:r>
            <a:r>
              <a:rPr b="0" lang="en-US" sz="1200" spc="-1" strike="noStrike">
                <a:solidFill>
                  <a:srgbClr val="000000"/>
                </a:solidFill>
                <a:latin typeface="Arial"/>
              </a:rPr>
              <a:t> major point of this discussion is Steps to Reduce Debugging.  We will examine 7 points in more detail he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23920" y="692280"/>
            <a:ext cx="4610160" cy="3457440"/>
          </a:xfrm>
          <a:prstGeom prst="rect">
            <a:avLst/>
          </a:prstGeom>
          <a:ln w="0">
            <a:noFill/>
          </a:ln>
        </p:spPr>
      </p:sp>
      <p:sp>
        <p:nvSpPr>
          <p:cNvPr id="188"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  If the program behaved as you expected it to you would not have a problem.  Even when a program appears to work if you examine it closely you may find that there is a least one small bug in 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23920" y="692280"/>
            <a:ext cx="4610160" cy="3457440"/>
          </a:xfrm>
          <a:prstGeom prst="rect">
            <a:avLst/>
          </a:prstGeom>
          <a:ln w="0">
            <a:noFill/>
          </a:ln>
        </p:spPr>
      </p:sp>
      <p:sp>
        <p:nvSpPr>
          <p:cNvPr id="190"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hen you are the most aware of likely problems is when you are designing and writing the code.  By inserting integrity checks in the program itself the program can handle errors appropriately.  Options on the way to do this are listed on the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23920" y="692280"/>
            <a:ext cx="4610160" cy="3457440"/>
          </a:xfrm>
          <a:prstGeom prst="rect">
            <a:avLst/>
          </a:prstGeom>
          <a:ln w="0">
            <a:noFill/>
          </a:ln>
        </p:spPr>
      </p:sp>
      <p:sp>
        <p:nvSpPr>
          <p:cNvPr id="192"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eat user input with suspicion!  All input data should be validated.  Natural provides ways to help you do this.  For online data you can use a selection box to ensure that only valid data values can be entered.   The record option in the read work file means that the data is not checked against the data format. This will help avoid a soc 7 if non-numeric data is present in a numeric field.  Of course you will need to write code to validate and handle the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23920" y="692280"/>
            <a:ext cx="4610160" cy="3457440"/>
          </a:xfrm>
          <a:prstGeom prst="rect">
            <a:avLst/>
          </a:prstGeom>
          <a:ln w="0">
            <a:noFill/>
          </a:ln>
        </p:spPr>
      </p:sp>
      <p:sp>
        <p:nvSpPr>
          <p:cNvPr id="194"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access storied log records that give basic information on the actions that occurred to the production database can be very helpful in debugging a problem.  At Penn State we do not log batch transactions however if I know that a batch job is not behaving correctly and I feel that this information would be helpful in going thru the basic steps to debug a program I will temporality log batch transactions.  Log records should contain the name of the transaction, date and time, user who changed the record, date and time and adabas files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pplication is a screen that shows the user an On Error window with details of the problem and tells the user to call the help desk – do not assume the user will do this.  Perhaps the user knows a way around this and finds it easier to get the desired results another way.  The same information that the user sees can be coded to be pushed out to you via an email or a special error log file that is checked frequenl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23920" y="692280"/>
            <a:ext cx="4610160" cy="3457440"/>
          </a:xfrm>
          <a:prstGeom prst="rect">
            <a:avLst/>
          </a:prstGeom>
          <a:ln w="0">
            <a:noFill/>
          </a:ln>
        </p:spPr>
      </p:sp>
      <p:sp>
        <p:nvSpPr>
          <p:cNvPr id="196"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ding make one change – test is thoroughly before making the next 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23920" y="692280"/>
            <a:ext cx="4610160" cy="3457440"/>
          </a:xfrm>
          <a:prstGeom prst="rect">
            <a:avLst/>
          </a:prstGeom>
          <a:ln w="0">
            <a:noFill/>
          </a:ln>
        </p:spPr>
      </p:sp>
      <p:sp>
        <p:nvSpPr>
          <p:cNvPr id="198"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ne bug is found there is a very good chance that the same bug exists elsewhere.  Catch other errors before they surf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23920" y="692280"/>
            <a:ext cx="4610160" cy="3457440"/>
          </a:xfrm>
          <a:prstGeom prst="rect">
            <a:avLst/>
          </a:prstGeom>
          <a:ln w="0">
            <a:noFill/>
          </a:ln>
        </p:spPr>
      </p:sp>
      <p:sp>
        <p:nvSpPr>
          <p:cNvPr id="200"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talked about how to debug at least in theory and how to reduce the need to debug we are ready to begin a discussion of the tools that you can use as a Natural programmer to that debugg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23920" y="692280"/>
            <a:ext cx="4610160" cy="3457440"/>
          </a:xfrm>
          <a:prstGeom prst="rect">
            <a:avLst/>
          </a:prstGeom>
          <a:ln w="0">
            <a:noFill/>
          </a:ln>
        </p:spPr>
      </p:sp>
      <p:sp>
        <p:nvSpPr>
          <p:cNvPr id="202"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way to debug is probably with a write statement.  Go over slide content and code exampl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23920" y="692280"/>
            <a:ext cx="4610160" cy="3457440"/>
          </a:xfrm>
          <a:prstGeom prst="rect">
            <a:avLst/>
          </a:prstGeom>
          <a:ln w="0">
            <a:noFill/>
          </a:ln>
        </p:spPr>
      </p:sp>
      <p:sp>
        <p:nvSpPr>
          <p:cNvPr id="204"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atchpoint</a:t>
            </a:r>
            <a:r>
              <a:rPr b="0" lang="en-US" sz="1200" spc="-1" strike="noStrike">
                <a:solidFill>
                  <a:srgbClr val="000000"/>
                </a:solidFill>
                <a:latin typeface="Arial"/>
              </a:rPr>
              <a:t> – instructs Natural to interrupt the execution of a program when the contents of a variable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reakpoint </a:t>
            </a:r>
            <a:r>
              <a:rPr b="0" lang="en-US" sz="1200" spc="-1" strike="noStrike">
                <a:solidFill>
                  <a:srgbClr val="000000"/>
                </a:solidFill>
                <a:latin typeface="Arial"/>
              </a:rPr>
              <a:t>– a point when control is returned to the user while a Natural object is executing.  Once the programmer has this control the programmer may set other break and watch points, step thru the code, display variables and modify variable valu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23920" y="692280"/>
            <a:ext cx="4610160" cy="3457440"/>
          </a:xfrm>
          <a:prstGeom prst="rect">
            <a:avLst/>
          </a:prstGeom>
          <a:ln w="0">
            <a:noFill/>
          </a:ln>
        </p:spPr>
      </p:sp>
      <p:sp>
        <p:nvSpPr>
          <p:cNvPr id="206"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slide content on adabas log document comment on what each column in the log shows you and how you can use the log even if you do not know direct calls by noting the program and line number that call is referring t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23920" y="692280"/>
            <a:ext cx="4610160" cy="3457440"/>
          </a:xfrm>
          <a:prstGeom prst="rect">
            <a:avLst/>
          </a:prstGeom>
          <a:ln w="0">
            <a:noFill/>
          </a:ln>
        </p:spPr>
      </p:sp>
      <p:sp>
        <p:nvSpPr>
          <p:cNvPr id="208"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lets you write code that says Write work file 1 ‘data’ .. And then another program that says Read work file 1 ‘data’.  The print statement wraps and does not have a the limitation on length of what you are writing out that the write statement ha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23920" y="692280"/>
            <a:ext cx="4610160" cy="3457440"/>
          </a:xfrm>
          <a:prstGeom prst="rect">
            <a:avLst/>
          </a:prstGeom>
          <a:ln w="0">
            <a:noFill/>
          </a:ln>
        </p:spPr>
      </p:sp>
      <p:sp>
        <p:nvSpPr>
          <p:cNvPr id="210"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use text pad to compare 2 files.  Talk about how this can be done with Natural code that sits on the mainframe. Demo compare of Test and Production code – the real changes are at the beginning (comment and added if statement to the test file) – show other changes are due to renumbering of code – you have to look at the compare file to see which changes are the relevant o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23920" y="692280"/>
            <a:ext cx="4610160" cy="3457440"/>
          </a:xfrm>
          <a:prstGeom prst="rect">
            <a:avLst/>
          </a:prstGeom>
          <a:ln w="0">
            <a:noFill/>
          </a:ln>
        </p:spPr>
      </p:sp>
      <p:sp>
        <p:nvSpPr>
          <p:cNvPr id="212"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use CSDiff to compare 2 files – use same files that were used in previous dem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 older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 newer (code w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nged text appears in normal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added to compared revision blue underl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removed from the compared revision green strike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 friendly format, click to diff format (looks like text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23920" y="692280"/>
            <a:ext cx="4610160" cy="3457440"/>
          </a:xfrm>
          <a:prstGeom prst="rect">
            <a:avLst/>
          </a:prstGeom>
          <a:ln w="0">
            <a:noFill/>
          </a:ln>
        </p:spPr>
      </p:sp>
      <p:sp>
        <p:nvSpPr>
          <p:cNvPr id="214"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 make sure you really understand what the error is – even if you think you do it may be helpful to read the error message to get things to c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 knowing the step libs does not have to be a dba secret anymore.  Is the problem due to trying to access code in a library that you don’t have acces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tried to trace where code structures begin and end – read, finds, for loops, if statements etc?  The struct commands will ensure that you 100% certain of the structure of a natural objec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23920" y="692280"/>
            <a:ext cx="4610160" cy="3457440"/>
          </a:xfrm>
          <a:prstGeom prst="rect">
            <a:avLst/>
          </a:prstGeom>
          <a:ln w="0">
            <a:noFill/>
          </a:ln>
        </p:spPr>
      </p:sp>
      <p:sp>
        <p:nvSpPr>
          <p:cNvPr id="216"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ways something that you can do when presented with a problem.  If you are stuck then you do not have enough information and an option worth considering is to recognize that a problem exists, recognize and accept that you are stuck, code to get more information so that you can work thru the debugging steps.  Many times this is  an iterative process. Gathering more information on a problem may point you to even more information that would be useful to have as well.  Go back and code to get that information.  Finally once the problem is resolved a decision will need to be made on weather you want to keep the code in that you used to gather more information on a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23920" y="692280"/>
            <a:ext cx="4610160" cy="3457440"/>
          </a:xfrm>
          <a:prstGeom prst="rect">
            <a:avLst/>
          </a:prstGeom>
          <a:ln w="0">
            <a:noFill/>
          </a:ln>
        </p:spPr>
      </p:sp>
      <p:sp>
        <p:nvSpPr>
          <p:cNvPr id="170"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program behave as expected by removing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r when systems a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ing one bug may cause others to emer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23920" y="692280"/>
            <a:ext cx="4610160" cy="3457440"/>
          </a:xfrm>
          <a:prstGeom prst="rect">
            <a:avLst/>
          </a:prstGeom>
          <a:ln w="0">
            <a:noFill/>
          </a:ln>
        </p:spPr>
      </p:sp>
      <p:sp>
        <p:nvSpPr>
          <p:cNvPr id="172"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sic agenda items – each one will be broken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23920" y="692280"/>
            <a:ext cx="4610160" cy="3457440"/>
          </a:xfrm>
          <a:prstGeom prst="rect">
            <a:avLst/>
          </a:prstGeom>
          <a:ln w="0">
            <a:noFill/>
          </a:ln>
        </p:spPr>
      </p:sp>
      <p:sp>
        <p:nvSpPr>
          <p:cNvPr id="174"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agenda item will be broken out into 5 sub poi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23920" y="692280"/>
            <a:ext cx="4610160" cy="3457440"/>
          </a:xfrm>
          <a:prstGeom prst="rect">
            <a:avLst/>
          </a:prstGeom>
          <a:ln w="0">
            <a:noFill/>
          </a:ln>
        </p:spPr>
      </p:sp>
      <p:sp>
        <p:nvSpPr>
          <p:cNvPr id="176"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enced programmer is more likely to know where a bug may occur based on the complexity of the program and the possibility of data corruption.  All user data should be treated with suspicion.  Care should be taken to verify that the format and value of the data is correct.  If data comes from a transmission (FTP) the program should check that all of the data was received.  If the error is severe enough the program may terminate abnormally and the presence of a bug becomes obvious.  If the bug is less severe  it may be more difficult to detect.  The goal of this step is to identify the symptoms of the err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23920" y="692280"/>
            <a:ext cx="4610160" cy="3457440"/>
          </a:xfrm>
          <a:prstGeom prst="rect">
            <a:avLst/>
          </a:prstGeom>
          <a:ln w="0">
            <a:noFill/>
          </a:ln>
        </p:spPr>
      </p:sp>
      <p:sp>
        <p:nvSpPr>
          <p:cNvPr id="178"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he most difficult step. Identify what portion of the system is causing the error.  Keep in mind the source of the error is not always the same as the source of the symptoms.  For example while processing in batch an error on the processing of a record may not surface until the next record is processed.  This step involves iterative testing.  First verify input is correct, then verify if that data was processed correctly.  For modular systems is the data being passed between modules correctly.  Skilled programmers may be able to guess where the error may be. Stepping sequentially thru a program may be the best way to determine where the error exists.  Finally you can verify that a program is or is not behaving correctly at its mid-point.  If the program is behaving correctly the problem is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code.  If the program is not giving the expected results the problem is in the first half of the code. From there you can continue to employ this strategy or chose to employ one of the other strategies already discus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23920" y="692280"/>
            <a:ext cx="4610160" cy="3457440"/>
          </a:xfrm>
          <a:prstGeom prst="rect">
            <a:avLst/>
          </a:prstGeom>
          <a:ln w="0">
            <a:noFill/>
          </a:ln>
        </p:spPr>
      </p:sp>
      <p:sp>
        <p:nvSpPr>
          <p:cNvPr id="180"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identified the location of the bug the next step is to determine the actual cause of the bug.  If a field is wrong –why is that field wrong?  A good understanding of the system is vital to successfully identifying the source of the bug.  The cause of a bug may be external to the system – the input data is not what you expected it to be.  The error may be caused by a typo.  Once the cause is found ask yourself is it likely this event exists in other code?  If the cause is a typo the likelihood is low – if the cause was a misunderstanding of the specs the likelihood is greater that other errors exist as we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23920" y="692280"/>
            <a:ext cx="4610160" cy="3457440"/>
          </a:xfrm>
          <a:prstGeom prst="rect">
            <a:avLst/>
          </a:prstGeom>
          <a:ln w="0">
            <a:noFill/>
          </a:ln>
        </p:spPr>
      </p:sp>
      <p:sp>
        <p:nvSpPr>
          <p:cNvPr id="182"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source of the problem has been identified the next task is to determine how to fix the problem.  In many cases there will be more than one way to fix a problem.  Entire system knowledge is helpful in deciding which fix to try.  Sometimes it is necessary to try to fix the same problem more than one way and then to test the change to determine which fix is really the best one.  Any change to a system can uncover other problems.  If the specs were not clearly understood an entire rewrite may be needed.  Many times it is a good idea to implement a quick fix and then to follow up with a permanent well thought out fi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A33324-F4AA-47D1-8980-5258B4B59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7C9E6-351A-4ABB-A999-0C66EC3E0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79FCD6-EBA6-4E26-B3E9-8C543DF9F7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7C082D-009D-499F-8514-5F24D02998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A1DBF-519C-4124-A9D5-94F8C1436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1A472-B398-4D71-AABE-7A0CDCE36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9D138-3278-4C9E-A160-5667CD79B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C6729-17B4-4A90-A17E-501AE7F3F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70EAB-1CF9-41C4-BDAE-30988A524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32D4-F423-4690-B5E9-E211655E6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DB738-E1BD-4F6A-8A4E-4F0507A5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D05C5-7C80-4602-B069-285BCBEF2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EF460-DEF0-4E24-9CE5-98EEE24FD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EBDB-61CA-4282-B520-51FF800ED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CD3AA-18C6-4947-B5EC-6DF42B447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984AA-8A47-4C47-A51B-EB6749ED2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93C56-B0E2-443A-83B9-50BC49A6F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7E093-18F2-428A-81C8-6AF70BB2B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1AD3AC-7EF1-4D96-94B7-BEB3BE95F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33D865-DCE0-4364-BB05-06B840571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736E5-5525-4FF3-8850-5FF7049E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643B5-4EF1-43C4-ABF6-259B3CB67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E3458-6198-4DF8-B605-805FB725F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3B86D5-ABEA-462F-A925-AEB802DD73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C8CC-16D2-4523-A674-45D08D9D2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CC67-AF7C-4AEF-B0C1-A303E1117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DebugExample001.doc" TargetMode="External"/><Relationship Id="rId2" Type="http://schemas.openxmlformats.org/officeDocument/2006/relationships/hyperlink" Target="file:///DebugExample002.doc"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file:///Using%20the%20debugger%20from%20SPoD.doc" TargetMode="External"/><Relationship Id="rId2" Type="http://schemas.openxmlformats.org/officeDocument/2006/relationships/hyperlink" Target="file:///Using%20the%20debugger%20from%20the%20main%20frame%20editor.doc" TargetMode="External"/><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file:///Adabas%20Log.doc"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omponentsoftware.com/products/csdiff/" TargetMode="Externa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HELP%20NAT.doc" TargetMode="External"/><Relationship Id="rId2" Type="http://schemas.openxmlformats.org/officeDocument/2006/relationships/hyperlink" Target="file:///TECH.doc" TargetMode="External"/><Relationship Id="rId3" Type="http://schemas.openxmlformats.org/officeDocument/2006/relationships/hyperlink" Target="file:///STRUCT%20DISPLAY.doc" TargetMode="External"/><Relationship Id="rId4" Type="http://schemas.openxmlformats.org/officeDocument/2006/relationships/hyperlink" Target="file:///STRUCT.doc" TargetMode="External"/><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jxc2@psu.edu"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Debugging Natural Module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ean Chamberlin</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Systems Analyst</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n State University</a:t>
            </a:r>
            <a:endParaRPr b="0" lang="en-US" sz="26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xc2@psu.ed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Step #5</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and tes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to ensure that the fix corrected the original proble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to ensure that fix did not introduce any new problem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mplete test plan for the application, run through the entire test plan when significant changes are ma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Reduce Debugging</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ct mindse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the sourc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user input with suspic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log fil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ne thing at a time</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out changes that have no effec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similar sit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1</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mindse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ze you DON’T know what is going on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n open mind</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2</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at the sour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integrity checks into your code allows the program to detect and report errors</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error, set invalid fields to a default value and continu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error, discard the record associated with the invalid value, and continu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error, write invalid record to an error file for further review, and continu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error and terminate the program</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3</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user input with suspic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data</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and provide meaningful error messag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boxe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routines</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data</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work file with the RECORD option</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4</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log fil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all online transact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should contain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the transactio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and Tim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bas files changed</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files should be accessible to programm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5</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one thing at a tim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changes incrementall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after each change is ma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6</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 changes that have no effec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ake a change the program still behaves the same you have learned one of several thing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not where you think it i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 you modified isn’t being called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ea you modified is not being called the way you think it i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Debugging Tip #7</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similar situa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oactiv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other places where the same mistake may have been mad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to verify that these areas are in need of a fix</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if need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Tool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vs. Inpu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Debugg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bas Lo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ging batch processes onli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Pad as a means to compare cod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Diff as a means to compare cod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commands to view the situation in a different wa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to get more information on the problem</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14400" y="2514600"/>
            <a:ext cx="7434360" cy="236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1</a:t>
            </a:r>
            <a:br>
              <a:rPr sz="4000"/>
            </a:br>
            <a:r>
              <a:rPr b="0" lang="en-US" sz="4000" spc="-1" strike="noStrike">
                <a:solidFill>
                  <a:srgbClr val="000000"/>
                </a:solidFill>
                <a:latin typeface="Arial"/>
              </a:rPr>
              <a:t>Write vs. Input</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ed when the buffer is full – could be after the error occur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display</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 able to change variable values</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to both write and inpu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ule has been modified and you are testing code that will not go into production (</a:t>
            </a:r>
            <a:r>
              <a:rPr b="0" lang="en-US" sz="2000" spc="-1" strike="noStrike" u="sng">
                <a:solidFill>
                  <a:srgbClr val="666699"/>
                </a:solidFill>
                <a:uFillTx/>
                <a:latin typeface="Arial"/>
                <a:hlinkClick r:id="rId1"/>
              </a:rPr>
              <a:t>code #1</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to both write and inpu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use for simple problems (</a:t>
            </a:r>
            <a:r>
              <a:rPr b="0" lang="en-US" sz="2000" spc="-1" strike="noStrike" u="sng">
                <a:solidFill>
                  <a:srgbClr val="666699"/>
                </a:solidFill>
                <a:uFillTx/>
                <a:latin typeface="Arial"/>
                <a:hlinkClick r:id="rId2"/>
              </a:rPr>
              <a:t>code #2</a:t>
            </a:r>
            <a:r>
              <a:rPr b="0" lang="en-US" sz="2000" spc="-1" strike="noStrike" u="sng">
                <a:solidFill>
                  <a:srgbClr val="000000"/>
                </a:solidFill>
                <a:uFillTx/>
                <a:latin typeface="Arial"/>
              </a:rPr>
              <a:t>)</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2</a:t>
            </a:r>
            <a:br>
              <a:rPr sz="4000"/>
            </a:br>
            <a:r>
              <a:rPr b="0" lang="en-US" sz="4000" spc="-1" strike="noStrike">
                <a:solidFill>
                  <a:srgbClr val="000000"/>
                </a:solidFill>
                <a:latin typeface="Arial"/>
              </a:rPr>
              <a:t>Natural Debugger</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use the Natural Debug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Spi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points</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point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thru the co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nd modify variabl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Debug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Using the debugger from SPo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2"/>
              </a:rPr>
              <a:t>Using the debugger from the main frame edito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3</a:t>
            </a:r>
            <a:br>
              <a:rPr sz="4000"/>
            </a:br>
            <a:r>
              <a:rPr b="0" lang="en-US" sz="4000" spc="-1" strike="noStrike">
                <a:solidFill>
                  <a:srgbClr val="000000"/>
                </a:solidFill>
                <a:latin typeface="Arial"/>
              </a:rPr>
              <a:t>Adabas Log</a:t>
            </a:r>
            <a:endParaRPr b="0" lang="en-US" sz="40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at the Adabas log helps determine if the code is efficien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most expensive thing done in a Natural program: I/O</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most expensive thing done in a Natural program: Calling Adaba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Arial"/>
                <a:hlinkClick r:id="rId1"/>
              </a:rPr>
              <a:t>Adabas Log Document</a:t>
            </a:r>
            <a:r>
              <a:rPr b="0" lang="en-US" sz="2800" spc="-1" strike="noStrike" u="sng">
                <a:solidFill>
                  <a:srgbClr val="000000"/>
                </a:solidFill>
                <a:uFillTx/>
                <a:latin typeface="Arial"/>
              </a:rPr>
              <a:t> – how to turn adabas logging on and off and what to look for in the lo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4</a:t>
            </a:r>
            <a:br>
              <a:rPr sz="4000"/>
            </a:br>
            <a:r>
              <a:rPr b="0" lang="en-US" sz="4000" spc="-1" strike="noStrike">
                <a:solidFill>
                  <a:srgbClr val="000000"/>
                </a:solidFill>
                <a:latin typeface="Arial"/>
              </a:rPr>
              <a:t>Debug batch online</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 to read and write work files on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replacing read work file statements with INPUT statem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write work file with the print state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pieces of your code onlin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5</a:t>
            </a:r>
            <a:br>
              <a:rPr sz="4000"/>
            </a:br>
            <a:r>
              <a:rPr b="0" lang="en-US" sz="4000" spc="-1" strike="noStrike">
                <a:solidFill>
                  <a:srgbClr val="000000"/>
                </a:solidFill>
                <a:latin typeface="Arial"/>
              </a:rPr>
              <a:t>TextPad to Compare Code</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 – set up 2 similar documents in TextPad, Tools -&gt; Compare Fi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CL to list Natural co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atural code into a datas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SO to send dataset of code to the P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xtPad to compare the cod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6</a:t>
            </a:r>
            <a:br>
              <a:rPr sz="4000"/>
            </a:br>
            <a:r>
              <a:rPr b="0" lang="en-US" sz="4000" spc="-1" strike="noStrike">
                <a:solidFill>
                  <a:srgbClr val="000000"/>
                </a:solidFill>
                <a:latin typeface="Arial"/>
              </a:rPr>
              <a:t>CSDiff to Compare Code</a:t>
            </a:r>
            <a:endParaRPr b="0" lang="en-US" sz="4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Arial"/>
                <a:hlinkClick r:id="rId1"/>
              </a:rPr>
              <a:t>http://www.componentsoftware.com/products/csdif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highligh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der and single file comparis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ntrol over the differences you want to se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tep through the document to see the differences with the click of a butt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ly view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war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7</a:t>
            </a:r>
            <a:br>
              <a:rPr sz="4000"/>
            </a:br>
            <a:r>
              <a:rPr b="0" lang="en-US" sz="4000" spc="-1" strike="noStrike">
                <a:solidFill>
                  <a:srgbClr val="000000"/>
                </a:solidFill>
                <a:latin typeface="Arial"/>
              </a:rPr>
              <a:t>Natural commands</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Arial"/>
                <a:hlinkClick r:id="rId1"/>
              </a:rPr>
              <a:t>HELP NAT </a:t>
            </a:r>
            <a:r>
              <a:rPr b="0" lang="en-US" sz="2800" spc="-1" strike="noStrike" u="sng">
                <a:solidFill>
                  <a:srgbClr val="000000"/>
                </a:solidFill>
                <a:uFillTx/>
                <a:latin typeface="Arial"/>
              </a:rPr>
              <a:t>– help for natural erro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99"/>
                </a:solidFill>
                <a:uFillTx/>
                <a:latin typeface="Arial"/>
                <a:hlinkClick r:id="rId2"/>
              </a:rPr>
              <a:t>TECH</a:t>
            </a:r>
            <a:r>
              <a:rPr b="0" lang="en-US" sz="2800" spc="-1" strike="noStrike" u="sng">
                <a:solidFill>
                  <a:srgbClr val="000000"/>
                </a:solidFill>
                <a:uFillTx/>
                <a:latin typeface="Arial"/>
              </a:rPr>
              <a:t> – displays technical info on Nat Sess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s to show the structure of a Natural obj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3"/>
              </a:rPr>
              <a:t>STRUCT DISPLAY </a:t>
            </a:r>
            <a:r>
              <a:rPr b="0" lang="en-US" sz="2400" spc="-1" strike="noStrike" u="sng">
                <a:solidFill>
                  <a:srgbClr val="000000"/>
                </a:solidFill>
                <a:uFillTx/>
                <a:latin typeface="Arial"/>
              </a:rPr>
              <a:t>– command line in Natural edito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4"/>
              </a:rPr>
              <a:t>STRUCT</a:t>
            </a:r>
            <a:r>
              <a:rPr b="0" lang="en-US" sz="2400" spc="-1" strike="noStrike" u="sng">
                <a:solidFill>
                  <a:srgbClr val="000000"/>
                </a:solidFill>
                <a:uFillTx/>
                <a:latin typeface="Arial"/>
              </a:rPr>
              <a:t> – command line outside Natural edito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ool #8</a:t>
            </a:r>
            <a:br>
              <a:rPr sz="4000"/>
            </a:br>
            <a:r>
              <a:rPr b="0" lang="en-US" sz="4000" spc="-1" strike="noStrike">
                <a:solidFill>
                  <a:srgbClr val="000000"/>
                </a:solidFill>
                <a:latin typeface="Arial"/>
              </a:rPr>
              <a:t>Code to get more info</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an’t fix the problem write code to get more information on the proble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yourself the information learn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information on a log fi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cessary (batch only) put write statements in produc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da</a:t>
            </a:r>
            <a:br>
              <a:rPr sz="4000"/>
            </a:br>
            <a:r>
              <a:rPr b="0" lang="en-US" sz="4000" spc="-1" strike="noStrike">
                <a:solidFill>
                  <a:srgbClr val="000000"/>
                </a:solidFill>
                <a:latin typeface="Arial"/>
              </a:rPr>
              <a:t>Wrap up</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ssion covered:</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teps to Debug a program</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to Reduce Debugg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Tool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t>
            </a:r>
            <a:r>
              <a:rPr b="0" lang="en-US" sz="2800" spc="-1" strike="noStrike" u="sng">
                <a:solidFill>
                  <a:srgbClr val="666699"/>
                </a:solidFill>
                <a:uFillTx/>
                <a:latin typeface="Arial"/>
                <a:hlinkClick r:id="rId1"/>
              </a:rPr>
              <a:t>jxc2@psu.edu</a:t>
            </a:r>
            <a:r>
              <a:rPr b="0" lang="en-US" sz="2800" spc="-1" strike="noStrike" u="sng">
                <a:solidFill>
                  <a:srgbClr val="000000"/>
                </a:solidFill>
                <a:uFillTx/>
                <a:latin typeface="Arial"/>
              </a:rPr>
              <a:t> (Jean Chamberl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52480" y="2819520"/>
            <a:ext cx="558648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a definition</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bugging</a:t>
            </a:r>
            <a:r>
              <a:rPr b="0" lang="en-US" sz="3200" spc="-1" strike="noStrike">
                <a:solidFill>
                  <a:srgbClr val="000000"/>
                </a:solidFill>
                <a:latin typeface="Arial"/>
              </a:rPr>
              <a:t> is a methodical process of finding and reducing the number of errors in a computer program thus making it behave as expected. Debugging tends to be harder when various subsystems are tightly coupled, as changes in one may cause bugs to emerge in an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eps to Debug a progra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Reduce Debugg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Tool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teps to Debug a progra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a bug exi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e source of bu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ause of bu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fix for bu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and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Step #1</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a bug exist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active or as need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where bugs are most likely to occur</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cod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data</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ymptoms of the bug</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does this bug occur</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y work-arounds been found to hel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Step #2</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e source of bu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ze where the error might b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testing</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input is correct</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validity of data passed between module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sequentially through a module to determine the source of the erro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 test the middle of the process to determine which half of the process has the problem continue until you identify the proble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Step #3</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ause of bug</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involve other sections of the progr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field is wro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at field wrong?</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the inability for the program to detect a field is wrong is a bug as well?</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caus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data</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c error</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s not understood</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roactiv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is bug exist in other similar code?</a:t>
            </a:r>
            <a:endParaRPr b="0" lang="en-US" sz="18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ugging Step #4</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fix for bug</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 Application Knowledge helpfu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a fix may introduce or uncover other problem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may require a total rewrite of the application</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 “quick fix” is best to be followed up by a more permanent fix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2:14:05Z</dcterms:created>
  <dc:creator>Doug</dc:creator>
  <dc:description/>
  <dc:language>en-US</dc:language>
  <cp:lastModifiedBy>Doug</cp:lastModifiedBy>
  <dcterms:modified xsi:type="dcterms:W3CDTF">2006-09-20T14:59:15Z</dcterms:modified>
  <cp:revision>50</cp:revision>
  <dc:subject/>
  <dc:title>Debugging Natural Modules</dc:title>
</cp:coreProperties>
</file>